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E1B2-43AC-4655-AFFC-E1CCFC92E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96216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0EA4-218A-40B6-9CDE-F17778299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1A4B-2044-4735-B5F3-0AD381CC3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12952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12952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96216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396216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396216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E203-667C-47DC-B10A-A522934FD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4DA19-3C91-48F1-BFEF-4A8EC8C2C5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28A9E-968E-4403-A875-51CB74DA0C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AD2DB-8C91-4012-95C2-353505B866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7B1EC-A5A4-4D41-97DB-D0412F91CC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65C43-36CE-43BF-A0E9-2E8DBEC75A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28800" y="457200"/>
            <a:ext cx="6934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90D91-8A45-42F1-AC08-5AFB5B7BF8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DD12D-7A55-4B45-AEE3-77B2292DE6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3649-FD4D-4031-A1F8-291613A79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D526A-4775-467C-9812-A35E7AD797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6216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17705-CA4A-40A4-AFD2-319147D2D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6216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EF867-52DC-4322-8087-A27B16E3B5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49722-49AF-49D7-AFB6-CFA2C88834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2952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2952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6216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96216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96216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F5B82-D6CA-43C5-B543-AD62EFED5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A149-DB4B-4F66-9257-1408B91DD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E251-B6C9-404D-A9B1-2C09E7A52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6E26-6690-4C97-AB12-AD1DB1325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457200"/>
            <a:ext cx="6934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9BA5-6758-4058-AA6C-EE06FA2FC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20D0-F34C-42DB-A077-3E142CD51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A22D-B69B-4105-A796-6FE232100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96216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EFAF-D8C5-4021-B4B9-6B1B60C93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934320" cy="53352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457200"/>
            <a:ext cx="380880" cy="5238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457200"/>
            <a:ext cx="380880" cy="5238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457200"/>
            <a:ext cx="380880" cy="5238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2680" y="647712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GPC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676520" y="647676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46712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B40E-F057-47F5-9C2B-2A2716EDCAAB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57200"/>
            <a:ext cx="380880" cy="5238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57200"/>
            <a:ext cx="380880" cy="5238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457200"/>
            <a:ext cx="380880" cy="52380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2680" y="647712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GPC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1676520" y="647676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746712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F0FB-C2CB-4444-A0F3-016D1464322D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655720" y="1514520"/>
            <a:ext cx="4245120" cy="2867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ff"/>
                </a:solidFill>
                <a:latin typeface="Arial"/>
              </a:rPr>
              <a:t>F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acht Abwicklung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ür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SAP R/3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DCEB-4D19-445C-9DDB-560E710DAD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76920" y="4114800"/>
            <a:ext cx="2849400" cy="946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er Menü-Punkt „Allg. Daten“ verzweigt in die TRANSPORT-ABRECHNU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76560" y="1599840"/>
            <a:ext cx="1981080" cy="2590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3352680"/>
            <a:ext cx="2849760" cy="1159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Transportdaten werden nun in dieser Form für den einzelnen Lieferschein so angezei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886200" y="2590560"/>
            <a:ext cx="762120" cy="10666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90D0-59AF-4598-82FB-5A48B2E9F5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6172200" cy="4628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26564" t="17709" r="16405" b="17709"/>
          <a:stretch/>
        </p:blipFill>
        <p:spPr>
          <a:xfrm>
            <a:off x="3505320" y="609480"/>
            <a:ext cx="3886200" cy="3300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rcRect l="26564" t="17709" r="15626" b="16666"/>
          <a:stretch/>
        </p:blipFill>
        <p:spPr>
          <a:xfrm>
            <a:off x="5257800" y="3429000"/>
            <a:ext cx="3276720" cy="2789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5181480"/>
            <a:ext cx="2849400" cy="1007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Nachdem der Dienstleister eingetragen wurde, ermittelt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AS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die Transportstrecke und zeigt sie in einem Fenster a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295280" y="2971440"/>
            <a:ext cx="457200" cy="2514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276720" y="2437920"/>
            <a:ext cx="533160" cy="3582000"/>
            <a:chOff x="3276720" y="2437920"/>
            <a:chExt cx="533160" cy="3582000"/>
          </a:xfrm>
        </p:grpSpPr>
        <p:sp>
          <p:nvSpPr>
            <p:cNvPr id="153" name=""/>
            <p:cNvSpPr/>
            <p:nvPr/>
          </p:nvSpPr>
          <p:spPr>
            <a:xfrm flipV="1">
              <a:off x="3733920" y="2437920"/>
              <a:ext cx="75960" cy="3048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276720" y="5486400"/>
              <a:ext cx="457200" cy="533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648320" y="5029200"/>
            <a:ext cx="2849400" cy="1159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ird der Transport „disponiert“, wird die gefundene Entfernung nach dem EWS-Entfernugswerk angezei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553080" y="4267080"/>
            <a:ext cx="1447920" cy="1599840"/>
            <a:chOff x="6553080" y="4267080"/>
            <a:chExt cx="1447920" cy="1599840"/>
          </a:xfrm>
        </p:grpSpPr>
        <p:sp>
          <p:nvSpPr>
            <p:cNvPr id="157" name=""/>
            <p:cNvSpPr/>
            <p:nvPr/>
          </p:nvSpPr>
          <p:spPr>
            <a:xfrm flipH="1" flipV="1">
              <a:off x="6553080" y="4267080"/>
              <a:ext cx="1447920" cy="990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238880" y="5257440"/>
              <a:ext cx="762120" cy="6094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657240" y="4190760"/>
            <a:ext cx="10666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422A-708B-4333-8BE7-0F7E9BA8A2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4120" y="2590920"/>
            <a:ext cx="2849400" cy="733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er Transport ist disponiert. Der Dispo-Status wird mit Datum und Uhrzeit angezeig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343400" y="3276720"/>
            <a:ext cx="2819520" cy="838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0E98-F17F-4ADA-AEDD-8BB11D183E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6250" t="4169" r="34376" b="16666"/>
          <a:stretch/>
        </p:blipFill>
        <p:spPr>
          <a:xfrm>
            <a:off x="380880" y="11430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6250" t="6251" r="33597" b="68755"/>
          <a:stretch/>
        </p:blipFill>
        <p:spPr>
          <a:xfrm>
            <a:off x="2971800" y="1981080"/>
            <a:ext cx="4572000" cy="1425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6250" t="4169" r="28908" b="16666"/>
          <a:stretch/>
        </p:blipFill>
        <p:spPr>
          <a:xfrm>
            <a:off x="1143000" y="2666880"/>
            <a:ext cx="4038480" cy="3699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10080" y="228600"/>
            <a:ext cx="2849760" cy="1647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er so disponierte Transport kann nun mit dem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AS-GPC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-Modul abgerechnet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Neben der Abrechnung stehen verschiedene Aktionen zur Verfügun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218960" y="914400"/>
            <a:ext cx="42670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1600200"/>
            <a:ext cx="320040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981600"/>
            <a:ext cx="2849400" cy="946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a die Transportkosten des Auftrages berechnet werden sollen, selektieren wir die Nr. 8 aus diese Men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8120" y="4724280"/>
            <a:ext cx="25905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209320" y="3657240"/>
            <a:ext cx="34290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C58D-D217-4106-9600-375DDA0637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6250" t="4169" r="33597" b="16666"/>
          <a:stretch/>
        </p:blipFill>
        <p:spPr>
          <a:xfrm>
            <a:off x="457200" y="1219320"/>
            <a:ext cx="4495680" cy="4437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14844" t="19791" r="38281" b="36462"/>
          <a:stretch/>
        </p:blipFill>
        <p:spPr>
          <a:xfrm>
            <a:off x="2590920" y="2514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419720" y="609480"/>
            <a:ext cx="2849400" cy="1159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Nach der Eingabe der Transportnummer können über den Aktionstyp verschiedene Vorgehensweise gesteuert werd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52120" y="1295280"/>
            <a:ext cx="4343400" cy="1676520"/>
            <a:chOff x="1752120" y="1295280"/>
            <a:chExt cx="4343400" cy="1676520"/>
          </a:xfrm>
        </p:grpSpPr>
        <p:sp>
          <p:nvSpPr>
            <p:cNvPr id="179" name=""/>
            <p:cNvSpPr/>
            <p:nvPr/>
          </p:nvSpPr>
          <p:spPr>
            <a:xfrm flipH="1">
              <a:off x="1752120" y="1752480"/>
              <a:ext cx="43434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866920" y="1295280"/>
              <a:ext cx="228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3124080"/>
            <a:ext cx="2849400" cy="5202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ir entscheiden uns für die FRACHTKALKUL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038120" y="3429000"/>
            <a:ext cx="12956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981080" y="990720"/>
            <a:ext cx="243864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1752480" y="2971800"/>
            <a:ext cx="99072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A104-169C-46DE-B1BE-A50A5ABDB8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5467" t="4169" r="34376" b="16666"/>
          <a:stretch/>
        </p:blipFill>
        <p:spPr>
          <a:xfrm>
            <a:off x="838080" y="1447920"/>
            <a:ext cx="4648320" cy="4587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19532" t="21878" r="34376" b="35419"/>
          <a:stretch/>
        </p:blipFill>
        <p:spPr>
          <a:xfrm>
            <a:off x="2514600" y="380880"/>
            <a:ext cx="3809880" cy="2648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rcRect l="6250" t="4169" r="14844" b="51046"/>
          <a:stretch/>
        </p:blipFill>
        <p:spPr>
          <a:xfrm>
            <a:off x="2286000" y="2971800"/>
            <a:ext cx="6477120" cy="2757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10080" y="1219320"/>
            <a:ext cx="2849760" cy="1372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Über den Punkt 4 wurde die Frachtberechnung angestoßen, die dann nach verschiedenen Varianten angezeigt werden kann, die wir auf den nächsten Seiten zei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733920" y="1447560"/>
            <a:ext cx="1752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647960" y="2133720"/>
            <a:ext cx="1981080" cy="3047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7824-7D9C-4FED-8FED-95D0901462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6250" t="4169" r="14844" b="17709"/>
          <a:stretch/>
        </p:blipFill>
        <p:spPr>
          <a:xfrm>
            <a:off x="457200" y="1295280"/>
            <a:ext cx="6248520" cy="4640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6250" t="4169" r="14844" b="16666"/>
          <a:stretch/>
        </p:blipFill>
        <p:spPr>
          <a:xfrm>
            <a:off x="2286000" y="2057400"/>
            <a:ext cx="5638680" cy="4243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038480" y="457200"/>
            <a:ext cx="2849760" cy="733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Über diese Menüpunkte kann das Frachtergebnis im Detail angesehen werd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218960" y="685800"/>
            <a:ext cx="34290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371600" y="685800"/>
            <a:ext cx="32767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057040" y="685800"/>
            <a:ext cx="259092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91120" y="685800"/>
            <a:ext cx="457200" cy="4800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42F4-E716-49D2-B88D-B4C5EAE470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0" y="1828800"/>
            <a:ext cx="4724280" cy="15858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n der weiteren Präsentation zeigen wir die möglichen Schritte, nachdem ein Transport berechnet wur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5. Gutschrift erzeu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6. Rückstellungen bil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7. Belegfluss anse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4343400"/>
            <a:ext cx="487692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UTSCHRIFT-E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3E08-F2AB-40E1-9434-E56C83E812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57600" y="2819520"/>
            <a:ext cx="4724280" cy="28645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Abrechnung eines Transportauftrages ist damit ferti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lle gezeigten Schritte werden im Echteinsatz im BATCH durchgeführt. D.h., alle Aufträge können zu den auftagsbezogenen Dienstleistern (Speditionen) automatisch berechnet werden, ohne dass dafür manuelle Eingriffe notwendig si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rden Frachtkontingente bei einem Spediteur erreicht, erfolgt eine Anzeige, ob dennoch der Auftrag an diesen Spediteur vergeben oder ob ein anderer Spediteur berücksichtigt werden sol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1295280"/>
            <a:ext cx="3581280" cy="15858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bisherigen Schritte können wie folgt aufgelistet werd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ansportauftrag anle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ieferung anle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ansport anle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ansport berechn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E72F-1359-4AE9-B397-AE1F29BBA6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772400" y="605160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1143000"/>
            <a:ext cx="6172200" cy="4538520"/>
            <a:chOff x="457200" y="1143000"/>
            <a:chExt cx="6172200" cy="453852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rcRect l="10938" t="3125" r="9376" b="18753"/>
            <a:stretch/>
          </p:blipFill>
          <p:spPr>
            <a:xfrm>
              <a:off x="457200" y="1143000"/>
              <a:ext cx="6172200" cy="45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rcRect l="10938" t="0" r="71878" b="72919"/>
            <a:stretch/>
          </p:blipFill>
          <p:spPr>
            <a:xfrm>
              <a:off x="457200" y="1143000"/>
              <a:ext cx="167652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" descr=""/>
          <p:cNvPicPr/>
          <p:nvPr/>
        </p:nvPicPr>
        <p:blipFill>
          <a:blip r:embed="rId3"/>
          <a:srcRect l="10938" t="3125" r="8594" b="18753"/>
          <a:stretch/>
        </p:blipFill>
        <p:spPr>
          <a:xfrm>
            <a:off x="990720" y="2666880"/>
            <a:ext cx="5257800" cy="3829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rcRect l="18749" t="40626" r="37502" b="37501"/>
          <a:stretch/>
        </p:blipFill>
        <p:spPr>
          <a:xfrm>
            <a:off x="4876920" y="3276720"/>
            <a:ext cx="4267080" cy="1600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95480" y="304920"/>
            <a:ext cx="4724640" cy="5202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Über die Menüpunkte Rechnungsbeleg, Autom. Erstellung wird die GUTSCHRIFT-MASKE geöff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23520" y="457200"/>
            <a:ext cx="6248520" cy="1143000"/>
            <a:chOff x="1523520" y="457200"/>
            <a:chExt cx="6248520" cy="1143000"/>
          </a:xfrm>
        </p:grpSpPr>
        <p:sp>
          <p:nvSpPr>
            <p:cNvPr id="215" name=""/>
            <p:cNvSpPr/>
            <p:nvPr/>
          </p:nvSpPr>
          <p:spPr>
            <a:xfrm flipH="1">
              <a:off x="1523520" y="990720"/>
              <a:ext cx="624852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6629040" y="457200"/>
              <a:ext cx="1143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904760" y="533160"/>
            <a:ext cx="6248160" cy="2133360"/>
            <a:chOff x="1904760" y="533160"/>
            <a:chExt cx="6248160" cy="2133360"/>
          </a:xfrm>
        </p:grpSpPr>
        <p:sp>
          <p:nvSpPr>
            <p:cNvPr id="218" name=""/>
            <p:cNvSpPr/>
            <p:nvPr/>
          </p:nvSpPr>
          <p:spPr>
            <a:xfrm flipH="1">
              <a:off x="1904760" y="1086120"/>
              <a:ext cx="6247800" cy="1580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458840" y="533160"/>
              <a:ext cx="694080" cy="55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971800" y="5029200"/>
            <a:ext cx="4724280" cy="1372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Nach der Eingabe der Transportnummer und einem Mappennamen wird die Gutschrift selbst mit F8 ausgelö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erfolgreiche Verarbeitung wird in einem separaten Fenster angezei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895480" y="3885840"/>
            <a:ext cx="228600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666880" y="5410080"/>
            <a:ext cx="381240" cy="457200"/>
            <a:chOff x="2666880" y="5410080"/>
            <a:chExt cx="381240" cy="457200"/>
          </a:xfrm>
        </p:grpSpPr>
        <p:sp>
          <p:nvSpPr>
            <p:cNvPr id="223" name=""/>
            <p:cNvSpPr/>
            <p:nvPr/>
          </p:nvSpPr>
          <p:spPr>
            <a:xfrm flipV="1">
              <a:off x="266688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666880" y="5410080"/>
              <a:ext cx="3812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562720" y="3809880"/>
            <a:ext cx="2743200" cy="2438640"/>
            <a:chOff x="5562720" y="3809880"/>
            <a:chExt cx="2743200" cy="2438640"/>
          </a:xfrm>
        </p:grpSpPr>
        <p:sp>
          <p:nvSpPr>
            <p:cNvPr id="226" name=""/>
            <p:cNvSpPr/>
            <p:nvPr/>
          </p:nvSpPr>
          <p:spPr>
            <a:xfrm flipV="1">
              <a:off x="5562720" y="6095880"/>
              <a:ext cx="2743200" cy="152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7238880" y="3809880"/>
              <a:ext cx="1067040" cy="228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1F9E-A123-466A-BD1E-234E0233ED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1828800"/>
            <a:ext cx="6172200" cy="2835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AS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Anwendung läuft automatisiert im Hintergrund auf einem SAP R/3 System im „Batch“ ab und kann vom Anwender individuell und auftragsbezogen editier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ir zeigen mit dieser Präsentation die einzelnen Schritte der FRACHTBERECHNUNG als Grundsystem v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AS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, um damit den logischen Ablauf zu verdeutlich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ine solche Präsentation gibt es auch für die weiteren FAS-Module, die wir Ihnen auf Wunsch gerne zur Verfügung stel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327E-5730-424D-9752-206FD06D04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11721" t="3125" r="4688" b="17709"/>
          <a:stretch/>
        </p:blipFill>
        <p:spPr>
          <a:xfrm>
            <a:off x="2286000" y="457200"/>
            <a:ext cx="6629400" cy="4708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10938" t="3125" r="9376" b="19791"/>
          <a:stretch/>
        </p:blipFill>
        <p:spPr>
          <a:xfrm>
            <a:off x="304920" y="1828800"/>
            <a:ext cx="4724280" cy="3427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752480" y="3505320"/>
            <a:ext cx="7086600" cy="5202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Über Systeme/Dienste/Batch-Input/Bearbeiten können die Mappenübersichten aufgelistet und verarbeitet werd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200400" y="837720"/>
            <a:ext cx="236232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00400" y="1294920"/>
            <a:ext cx="236232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200400" y="2057400"/>
            <a:ext cx="3581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200400" y="2057400"/>
            <a:ext cx="4648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rcRect l="10938" t="3125" r="10155" b="61461"/>
          <a:stretch/>
        </p:blipFill>
        <p:spPr>
          <a:xfrm>
            <a:off x="1905120" y="4267080"/>
            <a:ext cx="6248160" cy="2103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90920" y="3886200"/>
            <a:ext cx="76176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2504-F351-4034-B00A-2AFE364151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10938" t="3125" r="9376" b="19486"/>
          <a:stretch/>
        </p:blipFill>
        <p:spPr>
          <a:xfrm>
            <a:off x="685800" y="1143000"/>
            <a:ext cx="6172200" cy="4495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rcRect l="12500" t="13540" r="7811" b="69794"/>
          <a:stretch/>
        </p:blipFill>
        <p:spPr>
          <a:xfrm>
            <a:off x="1828800" y="380880"/>
            <a:ext cx="7162920" cy="1123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12500" t="13540" r="8594" b="28124"/>
          <a:stretch/>
        </p:blipFill>
        <p:spPr>
          <a:xfrm>
            <a:off x="2666880" y="2057400"/>
            <a:ext cx="6172200" cy="3421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04920" y="5486400"/>
            <a:ext cx="4495680" cy="946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Über FI-Überleitung/Dienstleister wird diese Maske geöffnet. Mit F8 wird dann der FI-Beleg erzeugt und die FI-Beleg-Nr. etc. angezeigt (siehe Folgesei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990720" y="838080"/>
            <a:ext cx="335268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33920" y="3657600"/>
            <a:ext cx="5331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9945-EE9B-4699-85AC-9F99E7AEC8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10938" t="3125" r="10155" b="61461"/>
          <a:stretch/>
        </p:blipFill>
        <p:spPr>
          <a:xfrm>
            <a:off x="380880" y="1371600"/>
            <a:ext cx="6248520" cy="2103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rcRect l="32031" t="18753" r="46875" b="37501"/>
          <a:stretch/>
        </p:blipFill>
        <p:spPr>
          <a:xfrm>
            <a:off x="6324480" y="1828800"/>
            <a:ext cx="20574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4038480"/>
            <a:ext cx="4495680" cy="733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urch einen Doppelklick auf den entsprechenden Transport kann das „Abspielen“ auch sichtbar aktiviert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066320" y="304776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952880" y="2590920"/>
            <a:ext cx="15242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4495680"/>
            <a:ext cx="2819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28B1-6FCB-4040-AD7D-C9B6A0D5B5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rcRect l="11721" t="10420" r="8594" b="48959"/>
          <a:stretch/>
        </p:blipFill>
        <p:spPr>
          <a:xfrm>
            <a:off x="685800" y="2133720"/>
            <a:ext cx="7772400" cy="2971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48120" y="1143000"/>
            <a:ext cx="4343400" cy="733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ei erfolgreicher Überleitung wird der Rechnungs- und der Erstellungsbeleg angezeig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981080" y="1600200"/>
            <a:ext cx="19051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124080" y="1676520"/>
            <a:ext cx="23623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0443-853F-4129-9402-A342E79B38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114800" y="76320"/>
            <a:ext cx="4495680" cy="1159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Über FI-Überleitung/Belegfluss können die im SAP R/3 System erzeugten Belege zu dem überstellten Transport, hier Nr. 2550, eingesehen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CO-/FI Kontierung ist damit vollständig erledi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10938" t="17709" r="9376" b="59379"/>
          <a:stretch/>
        </p:blipFill>
        <p:spPr>
          <a:xfrm>
            <a:off x="228600" y="1219320"/>
            <a:ext cx="6019920" cy="1298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rcRect l="10938" t="19791" r="9376" b="17709"/>
          <a:stretch/>
        </p:blipFill>
        <p:spPr>
          <a:xfrm>
            <a:off x="380880" y="1981080"/>
            <a:ext cx="6705720" cy="3944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rcRect l="10938" t="19791" r="9376" b="51041"/>
          <a:stretch/>
        </p:blipFill>
        <p:spPr>
          <a:xfrm>
            <a:off x="1143000" y="3657600"/>
            <a:ext cx="7772400" cy="2133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3200040" y="533520"/>
            <a:ext cx="1981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819160" y="990720"/>
            <a:ext cx="29718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209320" y="990720"/>
            <a:ext cx="441972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8FF8-67FF-4DA2-82C5-713A76E521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rcRect l="10938" t="19791" r="9376" b="51041"/>
          <a:stretch/>
        </p:blipFill>
        <p:spPr>
          <a:xfrm>
            <a:off x="1828800" y="304920"/>
            <a:ext cx="6553080" cy="1798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rcRect l="10938" t="19791" r="9376" b="44795"/>
          <a:stretch/>
        </p:blipFill>
        <p:spPr>
          <a:xfrm>
            <a:off x="152280" y="2286000"/>
            <a:ext cx="4343400" cy="1447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rcRect l="11721" t="19791" r="9376" b="9376"/>
          <a:stretch/>
        </p:blipFill>
        <p:spPr>
          <a:xfrm>
            <a:off x="2514600" y="2819520"/>
            <a:ext cx="3505320" cy="2359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rcRect l="10938" t="17709" r="58596" b="53128"/>
          <a:stretch/>
        </p:blipFill>
        <p:spPr>
          <a:xfrm>
            <a:off x="5638680" y="2133720"/>
            <a:ext cx="2286000" cy="1641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rcRect l="10938" t="16666" r="54690" b="46877"/>
          <a:stretch/>
        </p:blipFill>
        <p:spPr>
          <a:xfrm>
            <a:off x="6095880" y="4191120"/>
            <a:ext cx="2438640" cy="19396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257800"/>
            <a:ext cx="4495680" cy="1159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m FI-Belegfluss wurden 4 Beleg erstellt, die durch einen Klick auf die jeweilige Nr. angezeigt werden können.  Wurde anstelle einer Gutschrift eine Rückstellung gemacht, stünde diese Nr. links neben der FI-Beleg-N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38080" y="182880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828800"/>
            <a:ext cx="6098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1828800"/>
            <a:ext cx="3657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952520" y="1752120"/>
            <a:ext cx="3582000" cy="3657960"/>
            <a:chOff x="4952520" y="1752120"/>
            <a:chExt cx="3582000" cy="3657960"/>
          </a:xfrm>
        </p:grpSpPr>
        <p:sp>
          <p:nvSpPr>
            <p:cNvPr id="275" name=""/>
            <p:cNvSpPr/>
            <p:nvPr/>
          </p:nvSpPr>
          <p:spPr>
            <a:xfrm flipH="1">
              <a:off x="7620120" y="1981080"/>
              <a:ext cx="91440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952520" y="1752120"/>
              <a:ext cx="3581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010280" y="6203880"/>
            <a:ext cx="129564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95F1-D0EB-4444-8B30-D60F64B64C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71600" y="1371600"/>
            <a:ext cx="6705720" cy="41432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as GPC-FAS Programm rationalisiert und automatisiert  Ihr Transportwesen im erheblichen Mas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ir haben lediglich eine einfache Frachtberechnung gezeigt. FAS kann aber i.d.R. alle Frachtabrechnungen für Land-, Luft- und Seetransporte, sowie auch für die KEP-Dienst automatisch für jeden Dienstleister hinterle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as EWS-Entfernungswerk und alle ehemaligen nationalen Tarife sind standardmäßig integrie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ine Besonderheit stellt auch unsere Bahnabwicklungen da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FAS-Module und deren Modulpreise sehen Sie auf unserer Internets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http://www.schmidtchensoftware.de/sap_r_3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itere Informationen zu GPC finden Sie auf folgender S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http://www.gpc-gmbh.d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43800" y="5791320"/>
            <a:ext cx="609480" cy="2311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E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A2A7-B4C2-4B72-A3C2-740C4DD8C5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057400" y="152280"/>
            <a:ext cx="6477120" cy="4857840"/>
            <a:chOff x="2057400" y="152280"/>
            <a:chExt cx="6477120" cy="48578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2057400" y="152280"/>
              <a:ext cx="6477120" cy="48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363040" y="347760"/>
              <a:ext cx="560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/nva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174840"/>
            <a:ext cx="2209680" cy="2012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m Beispiel der An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eines TERMINAUF-TRAGES zeigen wir die Schritte, wie die Frachten ermittelt und eine Gutschrift oder Rückstellung für den/die Dienstleister erstellt wir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28600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86000" y="144792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51D5-808D-482B-BD55-D9D33A513D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562" t="3125" r="42191" b="38544"/>
          <a:stretch/>
        </p:blipFill>
        <p:spPr>
          <a:xfrm>
            <a:off x="609480" y="2057400"/>
            <a:ext cx="548640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24280" y="279360"/>
            <a:ext cx="2849760" cy="20120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lle für den Auftrag möglichen Dienstleister werden mit ihren für den Transport hinterlegten Frachtkosten angezeig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er Spediteur mit den günstigsten Frachtkosten steht an 1. Stel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581280" y="2057400"/>
            <a:ext cx="1828800" cy="68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7032" t="37501" r="49219" b="40626"/>
          <a:stretch/>
        </p:blipFill>
        <p:spPr>
          <a:xfrm>
            <a:off x="4572000" y="3048120"/>
            <a:ext cx="426708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66000" y="4800600"/>
            <a:ext cx="2849400" cy="7333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urch einen Doppelklick wird der gewünschte Dienstleister ausgewähl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095520" y="3809880"/>
            <a:ext cx="1143000" cy="99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0257-D171-4D0C-973B-2CACF68D3E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057400" y="1066680"/>
            <a:ext cx="6324480" cy="4743720"/>
            <a:chOff x="2057400" y="1066680"/>
            <a:chExt cx="6324480" cy="47437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2057400" y="1066680"/>
              <a:ext cx="6324480" cy="474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71600" y="126684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/nvl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572000" y="3048120"/>
            <a:ext cx="2849400" cy="15858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ür den Auftrag wird nun eine Lieferung angele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Auftragsdaten werden im Folgebildschirm nochmals angezeigt und könnten auch noch editier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3047760" y="1676520"/>
            <a:ext cx="1523880" cy="1676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28A9-CEB9-4EF0-88BD-4CD86BD8C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762120" y="685800"/>
            <a:ext cx="6933600" cy="5048280"/>
            <a:chOff x="762120" y="685800"/>
            <a:chExt cx="6933600" cy="50482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762120" y="1162080"/>
              <a:ext cx="609588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rcRect l="0" t="0" r="0" b="69794"/>
            <a:stretch/>
          </p:blipFill>
          <p:spPr>
            <a:xfrm>
              <a:off x="2209680" y="685800"/>
              <a:ext cx="5486040" cy="16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4876920" y="2666880"/>
            <a:ext cx="2849400" cy="1159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Lieferung wird gesichert und gleichzeitig kann ein  TRANSPORTAUFTRAG ange-leg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895480" y="1905120"/>
            <a:ext cx="41148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657240" y="1905120"/>
            <a:ext cx="335268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ED09-73C3-4A42-AB02-8F99FF25DA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62520" y="3657600"/>
            <a:ext cx="2849400" cy="946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Über den Menü-Button „Lieferung selektieren“ werden die Transportdaten angezei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666520" y="1828440"/>
            <a:ext cx="2133720" cy="2133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8286-DA10-4C99-9CA3-ED0E4A61C4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5867280" cy="440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95680" y="609480"/>
            <a:ext cx="2849760" cy="1372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Als Versandort wird für eine Selektion eines einzelnen Transportes die Versandstelle „GPC1“ eingegeben, die wir im System dafür angelegt hat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2438280"/>
            <a:ext cx="2849760" cy="1159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Die Lieferschein-Nummer für den Transport, der einzeln berechnet werden soll,  wird hier direkt  eingegeb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980720" y="1295280"/>
            <a:ext cx="259092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00600" y="2895480"/>
            <a:ext cx="358128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256C-8570-4017-A097-CBC722E497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7184"/>
            </a:gs>
            <a:gs pos="100000">
              <a:srgbClr val="fbf5f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24280" y="380880"/>
            <a:ext cx="2849760" cy="15858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ird die Versandstelle ohne die Angabe einer einzelnen Lieferung angegeben und auf „Selektion ausführen“ geklickt, werden alle bereitstehenden Transporte angezei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828440" y="228240"/>
            <a:ext cx="4267440" cy="1829160"/>
            <a:chOff x="1828440" y="228240"/>
            <a:chExt cx="4267440" cy="1829160"/>
          </a:xfrm>
        </p:grpSpPr>
        <p:sp>
          <p:nvSpPr>
            <p:cNvPr id="134" name=""/>
            <p:cNvSpPr/>
            <p:nvPr/>
          </p:nvSpPr>
          <p:spPr>
            <a:xfrm flipH="1">
              <a:off x="1828440" y="228600"/>
              <a:ext cx="2895480" cy="18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724280" y="228240"/>
              <a:ext cx="1371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14040" y="1218960"/>
            <a:ext cx="3886560" cy="1600560"/>
            <a:chOff x="914040" y="1218960"/>
            <a:chExt cx="3886560" cy="1600560"/>
          </a:xfrm>
        </p:grpSpPr>
        <p:sp>
          <p:nvSpPr>
            <p:cNvPr id="137" name=""/>
            <p:cNvSpPr/>
            <p:nvPr/>
          </p:nvSpPr>
          <p:spPr>
            <a:xfrm flipH="1" flipV="1">
              <a:off x="914040" y="1828800"/>
              <a:ext cx="1600200" cy="990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514600" y="1218960"/>
              <a:ext cx="2286000" cy="1600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4571640" y="1523880"/>
            <a:ext cx="1219320" cy="228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5791320"/>
            <a:ext cx="1295280" cy="505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Für die nächste Seite bitte die Entertaste klick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PC Vertriebsbüro, 73249 Wernau, 07153/30729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0114-7015-45C8-8D6E-C8D53D109A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08:11:11Z</dcterms:created>
  <dc:creator>Oliver Stelzer</dc:creator>
  <dc:description/>
  <dc:language>en-US</dc:language>
  <cp:lastModifiedBy>KHS</cp:lastModifiedBy>
  <dcterms:modified xsi:type="dcterms:W3CDTF">2001-10-27T21:06:21Z</dcterms:modified>
  <cp:revision>68</cp:revision>
  <dc:subject/>
  <dc:title>PowerPoint-Präsentation</dc:title>
</cp:coreProperties>
</file>